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4B9-4C32-4F69-B880-F616FDDB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4E8-3573-4809-9982-BF69534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27E-A91A-4AB4-9F56-62625425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376-517C-4476-BFB8-A7AAD385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231-062F-4131-A2E4-F2E0CDB9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42E-4FD3-41D3-A930-387F8EAA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A9B-A15B-46BA-9877-7752898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BC3F-49F9-4C3F-BA7A-4E299F7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BE9-87EB-4E47-A639-789E00E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41B-6B5B-4B47-A68B-B2B10E1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49C-FB79-48BE-87B8-A6CD9F5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446-C452-4188-8CFA-B6DA8AA7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DD83-2035-40A7-A547-83435B6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04A3-C07D-4620-AC1F-8E74043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A359-924B-4DB7-A3F8-DAC44DF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7F7C-404F-4867-923D-4F27AD06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2F3-2432-4AF7-8386-A023AF0C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441-006B-4160-938E-E38EF2FF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EED-C8A2-4C04-83B2-584CD49B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AB0-307F-40CA-B86E-AC9DB12A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B43-BA59-4C98-AB3C-E2FD4F6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7F2-BEC7-45B9-B7B1-8C468C1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424-C0E5-4BA6-BBE0-D9121DD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E26-C5D5-4517-A268-CD83A9B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9B1E-8B20-466F-B079-D359D1312B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985-FD5E-4586-8650-424599C42D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1640" y="259920"/>
            <a:ext cx="1368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56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улице ветер гнал перья, стружки, п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годня на уроке мы решали примеры, строили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взял с собой рюкзак и пала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шем районе построили новое кирпичное з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молчал долго и упо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60280"/>
            <a:ext cx="136872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Повторение и обобщение по теме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«Однородные члены предложения»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3933360"/>
            <a:ext cx="663588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годня я хочу повторить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ря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1499" t="29320" r="17846" b="50808"/>
          <a:stretch/>
        </p:blipFill>
        <p:spPr>
          <a:xfrm>
            <a:off x="2484360" y="2133720"/>
            <a:ext cx="3888000" cy="79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2126" t="48023" r="11630" b="25969"/>
          <a:stretch/>
        </p:blipFill>
        <p:spPr>
          <a:xfrm>
            <a:off x="2484360" y="3141720"/>
            <a:ext cx="3816360" cy="987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11528" t="74050" r="7836" b="0"/>
          <a:stretch/>
        </p:blipFill>
        <p:spPr>
          <a:xfrm>
            <a:off x="2484360" y="4221000"/>
            <a:ext cx="3672000" cy="884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765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ьте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Грамматические ошибки </a:t>
            </a:r>
            <a:br>
              <a:rPr sz="2800"/>
            </a:b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в предложениях с однородными членам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497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Мальчик был смел, благородный и чест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В корзине лежали фрукты, яблоки, груш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Вечерами люблю посидеть у камина  и чт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Я не только читаю газеты, но и журна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Поэт знакомится и внимательно изучает фолькл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765000"/>
            <a:ext cx="2962080" cy="6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Самопроверк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Солнце поднимаетс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али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Вс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Повторяющийся союз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то…, 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Озеро, бол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лжите предложения: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7138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сегодня повтори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меня сегодня самым трудным бы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9T17:15:56Z</dcterms:created>
  <dc:creator>user</dc:creator>
  <dc:description/>
  <dc:language>en-US</dc:language>
  <cp:lastModifiedBy>user</cp:lastModifiedBy>
  <dcterms:modified xsi:type="dcterms:W3CDTF">2022-01-29T17:49:27Z</dcterms:modified>
  <cp:revision>3</cp:revision>
  <dc:subject/>
  <dc:title>???</dc:title>
</cp:coreProperties>
</file>